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C6E2B2-E3FF-4045-808E-D3F152191F8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BEB65F-F72C-42A4-960A-E55903F89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7BA68B-7511-4EFE-A1C9-3F1755B67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2B4DA9-B140-4C7B-A4F0-EE5E0B56D17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C9BD17-CAEA-4961-924D-FFBC6997E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248E0C-9186-4986-B462-EF7C8C04E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D385CA-8150-4A94-A0F5-303D0FAF8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875A6F-4A08-4A3E-98C2-606E36E72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1AA1B0-C68C-4433-AD41-666950ECA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4D488A-B7C8-451B-ABA1-CAC257554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17F7B4-A1B3-4E3F-A61E-B096A3B48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663060-E6FA-44D5-9574-EB7340FB7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26B90-C274-4969-9DDF-18DDDD782562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image" Target="../media/image9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6.png"/><Relationship Id="rId1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三十四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抗恶性肿瘤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环磷酰胺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61048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包括：泌尿道症状、骨髓抑制、胃肠道反应、脱发、心脏毒性、肝功能损害等；另外，还有致癌、致畸和致突变作用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禁忌证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明显恶液质者、心功能不全、孕妇、哺乳期妇女禁用。有痛风病史、肝功能损害、感染、肾功能损害、有泌尿系结石史及肝病患者慎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5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3B5D0-BE7A-42F1-8A72-D32D33C0B96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环磷酰胺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50920" y="1339920"/>
            <a:ext cx="861048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药疗监护须知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期间应鼓励患者多饮水，达到水化利尿，减少充血性膀胱炎的发生。还可以配合应用巯乙磺酸钠预防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本品对组织有刺激作用，静滴过程中需注意观察局部皮肤变化，一旦发现药液外溢应立即更换静脉通道，局部给予冷、热敷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脱发一般发生于用药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周，应预先向患者说明，头发可再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期间注意监测血象，每周检测白细胞、血小板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期间应定期检测心功能及肝、肾功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F1141-1A4A-4679-AC23-A8776C71C7F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病 例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圆角矩形 3"/>
          <p:cNvSpPr/>
          <p:nvPr/>
        </p:nvSpPr>
        <p:spPr>
          <a:xfrm>
            <a:off x="468360" y="1771560"/>
            <a:ext cx="7858080" cy="1944720"/>
          </a:xfrm>
          <a:prstGeom prst="roundRect">
            <a:avLst>
              <a:gd name="adj" fmla="val 12264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患者女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69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岁，涕血，后鼻镜检查发现咽隐窝有肉芽肿样隆起，表面粗糙不平。诊断为鼻咽癌，并伴有心功能不全。医嘱：环磷酰胺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00 mg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周，静脉注射给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剪去单角的矩形 6"/>
          <p:cNvSpPr/>
          <p:nvPr/>
        </p:nvSpPr>
        <p:spPr>
          <a:xfrm>
            <a:off x="539640" y="3933720"/>
            <a:ext cx="8001000" cy="714600"/>
          </a:xfrm>
          <a:prstGeom prst="pie">
            <a:avLst/>
          </a:prstGeom>
          <a:solidFill>
            <a:srgbClr val="fe230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问题：选择该治疗方案是否合理？为什么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3" name="Rectangle 8"/>
          <p:cNvSpPr/>
          <p:nvPr/>
        </p:nvSpPr>
        <p:spPr>
          <a:xfrm>
            <a:off x="3211560" y="1104120"/>
            <a:ext cx="3013920" cy="5205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忽视禁忌证，致不良反应增加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圆角矩形 3"/>
          <p:cNvSpPr/>
          <p:nvPr/>
        </p:nvSpPr>
        <p:spPr>
          <a:xfrm>
            <a:off x="601560" y="4941720"/>
            <a:ext cx="7858080" cy="1513080"/>
          </a:xfrm>
          <a:prstGeom prst="roundRect">
            <a:avLst>
              <a:gd name="adj" fmla="val 12264"/>
            </a:avLst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分析：不合理。虽然环磷酰胺可用于鼻咽癌的治疗，但是该药有明显的心脏毒性，心功能不全者禁用，而该患者伴有心功能不全，所以不宜使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3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其他常用药物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09480" y="1558800"/>
            <a:ext cx="7850160" cy="41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5000"/>
              </a:lnSpc>
              <a:spcBef>
                <a:spcPts val="122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白消安又名马利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22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卡莫司汀又名卡氮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22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罗莫司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22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司莫司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22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美法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7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4BEB8-7C98-4909-B1DB-D0A555CDCBC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二节  抗代谢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560" y="1412640"/>
            <a:ext cx="878364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此类药物主要作用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S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期细胞，属细胞周期特异性药物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包括：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抑制二氢叶酸还原酶的药物，如甲氨蝶呤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阻止嘧啶类核苷酸形成的抗代谢药物，如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5-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氟尿嘧啶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抑制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多聚酶的药物，如阿糖胞苷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阻止嘌呤类核苷酸形成的抗代谢药物，如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6-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巯嘌呤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抑制核苷酸还原酶的药物，如羟基脲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4C031-98C1-44FE-862B-EE9246C34E4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1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甲氨蝶呤（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宋体"/>
              </a:rPr>
              <a:t>MTX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125360"/>
            <a:ext cx="861048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药理作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甲氨蝶呤为抗叶酸类抗肿瘤药，化学结构与叶酸相似，主要通过抑制二氢叶酸还原酶，阻止脱氧胸苷酸合成，干扰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合成；也可通过阻止嘌呤核苷酸合成，干扰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RN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和蛋白质的合成。该药主要作用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S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期细胞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应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用于儿童急性白血病和绒毛膜上皮癌的治疗。对恶性葡萄胎、骨肉瘤、软组织肉瘤、肺癌、乳腺癌、肝癌、卵巢癌、睾丸肿瘤、头颈部肿瘤等有良效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3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FD800-F05F-4BC8-A3BE-B0CAB511E4F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甲氨蝶呤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61048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包括：胃肠道反应、骨髓抑制、肝功能损害、肾功能损害、中枢神经系统毒性、肺毒性及脱发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禁忌证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肝、肾功能异常、孕妇和哺乳期妇女禁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D33C2-B92C-4F5D-922B-6B1B62609AF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甲氨蝶呤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250920" y="1123920"/>
            <a:ext cx="86104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药疗监护须知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期间应大量饮水，预防肾功能衰竭，碱化尿液以降低毒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血药浓度与骨髓抑制密切相关，用药期间应监测血药浓度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期间每周应检查血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，如果白细胞和血小板数量过低必须立即停药。为减轻甲氨蝶呤的骨髓抑制作用，可在大剂量应用甲氨蝶呤后肌注甲酰四氢叶酸钙作为救援剂，以保护骨髓正常细胞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期间应定期检测肝、肾功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脱发一般发生于用药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周，应预先向患者说明，头发可再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9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DE420-CABC-4C57-B595-8593E90C526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病 例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圆角矩形 3"/>
          <p:cNvSpPr/>
          <p:nvPr/>
        </p:nvSpPr>
        <p:spPr>
          <a:xfrm>
            <a:off x="468360" y="1771560"/>
            <a:ext cx="7858080" cy="1586160"/>
          </a:xfrm>
          <a:prstGeom prst="roundRect">
            <a:avLst>
              <a:gd name="adj" fmla="val 12264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患者男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9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岁，诊断为支气管肺癌，并伴有肝功能障碍、重度脂肪肝。医嘱：甲氨蝶呤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 mg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/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口服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" name="剪去单角的矩形 6"/>
          <p:cNvSpPr/>
          <p:nvPr/>
        </p:nvSpPr>
        <p:spPr>
          <a:xfrm>
            <a:off x="539640" y="3645000"/>
            <a:ext cx="8001000" cy="714240"/>
          </a:xfrm>
          <a:prstGeom prst="pie">
            <a:avLst/>
          </a:prstGeom>
          <a:solidFill>
            <a:srgbClr val="fe230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问题：选择该药是否合理？为什么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Rectangle 6"/>
          <p:cNvSpPr/>
          <p:nvPr/>
        </p:nvSpPr>
        <p:spPr>
          <a:xfrm>
            <a:off x="3211560" y="1104120"/>
            <a:ext cx="3013920" cy="5205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忽视禁忌证，致不良反应增加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圆角矩形 3"/>
          <p:cNvSpPr/>
          <p:nvPr/>
        </p:nvSpPr>
        <p:spPr>
          <a:xfrm>
            <a:off x="601560" y="4581360"/>
            <a:ext cx="7858080" cy="1873440"/>
          </a:xfrm>
          <a:prstGeom prst="roundRect">
            <a:avLst>
              <a:gd name="adj" fmla="val 12264"/>
            </a:avLst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分析：不合理。甲氨蝶呤属于抗代谢药，是细胞特异性药物，可以用于支气管肺癌的治疗，但此药有明显的肝脏毒性，肝功能异常者禁用，而该患者有肝功能障碍，所以不宜选择此药物治疗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2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其他常用药物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09480" y="1558800"/>
            <a:ext cx="7850160" cy="41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5000"/>
              </a:lnSpc>
              <a:spcBef>
                <a:spcPts val="122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氟尿嘧啶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-FU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22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阿糖胞苷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ra-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22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6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巯嘌呤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6-M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22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羟基脲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U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22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安西他滨又名环胞苷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yclo-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0541E-7FCA-4B97-945B-160BD35B272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81668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06" name="Group 29"/>
          <p:cNvGrpSpPr/>
          <p:nvPr/>
        </p:nvGrpSpPr>
        <p:grpSpPr>
          <a:xfrm>
            <a:off x="1819440" y="1322280"/>
            <a:ext cx="688320" cy="593640"/>
            <a:chOff x="1819440" y="1322280"/>
            <a:chExt cx="688320" cy="593640"/>
          </a:xfrm>
        </p:grpSpPr>
        <p:grpSp>
          <p:nvGrpSpPr>
            <p:cNvPr id="107" name="Group 4"/>
            <p:cNvGrpSpPr/>
            <p:nvPr/>
          </p:nvGrpSpPr>
          <p:grpSpPr>
            <a:xfrm>
              <a:off x="1819440" y="1322280"/>
              <a:ext cx="688320" cy="593640"/>
              <a:chOff x="1819440" y="1322280"/>
              <a:chExt cx="688320" cy="593640"/>
            </a:xfrm>
          </p:grpSpPr>
          <p:sp>
            <p:nvSpPr>
              <p:cNvPr id="108" name="AutoShape 5"/>
              <p:cNvSpPr/>
              <p:nvPr/>
            </p:nvSpPr>
            <p:spPr>
              <a:xfrm>
                <a:off x="1824840" y="1332360"/>
                <a:ext cx="682920" cy="583560"/>
              </a:xfrm>
              <a:prstGeom prst="hexagon">
                <a:avLst>
                  <a:gd name="adj" fmla="val 29257"/>
                  <a:gd name="vf" fmla="val 115470"/>
                </a:avLst>
              </a:prstGeom>
              <a:blipFill rotWithShape="0">
                <a:blip r:embed="rId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9" name="AutoShape 6"/>
              <p:cNvSpPr/>
              <p:nvPr/>
            </p:nvSpPr>
            <p:spPr>
              <a:xfrm>
                <a:off x="1819440" y="1322280"/>
                <a:ext cx="682920" cy="583560"/>
              </a:xfrm>
              <a:prstGeom prst="hexagon">
                <a:avLst>
                  <a:gd name="adj" fmla="val 29257"/>
                  <a:gd name="vf" fmla="val 115470"/>
                </a:avLst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0" name="AutoShape 7"/>
              <p:cNvSpPr/>
              <p:nvPr/>
            </p:nvSpPr>
            <p:spPr>
              <a:xfrm>
                <a:off x="1859400" y="1357200"/>
                <a:ext cx="600120" cy="513360"/>
              </a:xfrm>
              <a:prstGeom prst="hexagon">
                <a:avLst>
                  <a:gd name="adj" fmla="val 29225"/>
                  <a:gd name="vf" fmla="val 115470"/>
                </a:avLst>
              </a:pr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11" name="Text Box 8"/>
            <p:cNvSpPr/>
            <p:nvPr/>
          </p:nvSpPr>
          <p:spPr>
            <a:xfrm>
              <a:off x="1999440" y="1379520"/>
              <a:ext cx="2980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1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12" name="Group 30"/>
          <p:cNvGrpSpPr/>
          <p:nvPr/>
        </p:nvGrpSpPr>
        <p:grpSpPr>
          <a:xfrm>
            <a:off x="1819440" y="2025720"/>
            <a:ext cx="687240" cy="593640"/>
            <a:chOff x="1819440" y="2025720"/>
            <a:chExt cx="687240" cy="593640"/>
          </a:xfrm>
        </p:grpSpPr>
        <p:sp>
          <p:nvSpPr>
            <p:cNvPr id="113" name="AutoShape 9"/>
            <p:cNvSpPr/>
            <p:nvPr/>
          </p:nvSpPr>
          <p:spPr>
            <a:xfrm>
              <a:off x="1819440" y="2025720"/>
              <a:ext cx="687240" cy="593640"/>
            </a:xfrm>
            <a:prstGeom prst="hexagon">
              <a:avLst>
                <a:gd name="adj" fmla="val 28942"/>
                <a:gd name="vf" fmla="val 115470"/>
              </a:avLst>
            </a:prstGeom>
            <a:gradFill rotWithShape="0">
              <a:gsLst>
                <a:gs pos="0">
                  <a:srgbClr val="405d67"/>
                </a:gs>
                <a:gs pos="100000">
                  <a:srgbClr val="8ac8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4" name="Text Box 10"/>
            <p:cNvSpPr/>
            <p:nvPr/>
          </p:nvSpPr>
          <p:spPr>
            <a:xfrm>
              <a:off x="1954080" y="2108160"/>
              <a:ext cx="3542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2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15" name="Group 31"/>
          <p:cNvGrpSpPr/>
          <p:nvPr/>
        </p:nvGrpSpPr>
        <p:grpSpPr>
          <a:xfrm>
            <a:off x="1803240" y="4076640"/>
            <a:ext cx="687240" cy="593640"/>
            <a:chOff x="1803240" y="4076640"/>
            <a:chExt cx="687240" cy="593640"/>
          </a:xfrm>
        </p:grpSpPr>
        <p:grpSp>
          <p:nvGrpSpPr>
            <p:cNvPr id="116" name="Group 11"/>
            <p:cNvGrpSpPr/>
            <p:nvPr/>
          </p:nvGrpSpPr>
          <p:grpSpPr>
            <a:xfrm>
              <a:off x="1803240" y="4076640"/>
              <a:ext cx="687240" cy="593640"/>
              <a:chOff x="1803240" y="4076640"/>
              <a:chExt cx="687240" cy="593640"/>
            </a:xfrm>
          </p:grpSpPr>
          <p:sp>
            <p:nvSpPr>
              <p:cNvPr id="117" name="AutoShape 12"/>
              <p:cNvSpPr/>
              <p:nvPr/>
            </p:nvSpPr>
            <p:spPr>
              <a:xfrm>
                <a:off x="1808640" y="4086720"/>
                <a:ext cx="681840" cy="583560"/>
              </a:xfrm>
              <a:prstGeom prst="hexagon">
                <a:avLst>
                  <a:gd name="adj" fmla="val 29210"/>
                  <a:gd name="vf" fmla="val 115470"/>
                </a:avLst>
              </a:prstGeom>
              <a:blipFill rotWithShape="0">
                <a:blip r:embed="rId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8" name="AutoShape 13"/>
              <p:cNvSpPr/>
              <p:nvPr/>
            </p:nvSpPr>
            <p:spPr>
              <a:xfrm>
                <a:off x="1803240" y="4076640"/>
                <a:ext cx="681840" cy="583560"/>
              </a:xfrm>
              <a:prstGeom prst="hexagon">
                <a:avLst>
                  <a:gd name="adj" fmla="val 29210"/>
                  <a:gd name="vf" fmla="val 115470"/>
                </a:avLst>
              </a:prstGeom>
              <a:blipFill rotWithShape="0">
                <a:blip r:embed="rId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9" name="AutoShape 14"/>
              <p:cNvSpPr/>
              <p:nvPr/>
            </p:nvSpPr>
            <p:spPr>
              <a:xfrm>
                <a:off x="1843200" y="4111560"/>
                <a:ext cx="599400" cy="513360"/>
              </a:xfrm>
              <a:prstGeom prst="hexagon">
                <a:avLst>
                  <a:gd name="adj" fmla="val 29190"/>
                  <a:gd name="vf" fmla="val 115470"/>
                </a:avLst>
              </a:prstGeom>
              <a:blipFill rotWithShape="0">
                <a:blip r:embed="rId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20" name="Text Box 15"/>
            <p:cNvSpPr/>
            <p:nvPr/>
          </p:nvSpPr>
          <p:spPr>
            <a:xfrm>
              <a:off x="1971720" y="4152960"/>
              <a:ext cx="3524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5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21" name="Group 33"/>
          <p:cNvGrpSpPr/>
          <p:nvPr/>
        </p:nvGrpSpPr>
        <p:grpSpPr>
          <a:xfrm>
            <a:off x="1805040" y="2708280"/>
            <a:ext cx="679320" cy="593640"/>
            <a:chOff x="1805040" y="2708280"/>
            <a:chExt cx="679320" cy="593640"/>
          </a:xfrm>
        </p:grpSpPr>
        <p:sp>
          <p:nvSpPr>
            <p:cNvPr id="122" name="AutoShape 16"/>
            <p:cNvSpPr/>
            <p:nvPr/>
          </p:nvSpPr>
          <p:spPr>
            <a:xfrm>
              <a:off x="1805040" y="2708280"/>
              <a:ext cx="679320" cy="593640"/>
            </a:xfrm>
            <a:prstGeom prst="hexagon">
              <a:avLst>
                <a:gd name="adj" fmla="val 28608"/>
                <a:gd name="vf" fmla="val 115470"/>
              </a:avLst>
            </a:pr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3" name="Text Box 17"/>
            <p:cNvSpPr/>
            <p:nvPr/>
          </p:nvSpPr>
          <p:spPr>
            <a:xfrm>
              <a:off x="1983240" y="2765520"/>
              <a:ext cx="2980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3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24" name="Line 18"/>
          <p:cNvSpPr/>
          <p:nvPr/>
        </p:nvSpPr>
        <p:spPr>
          <a:xfrm>
            <a:off x="2556000" y="1844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Line 19"/>
          <p:cNvSpPr/>
          <p:nvPr/>
        </p:nvSpPr>
        <p:spPr>
          <a:xfrm>
            <a:off x="2556000" y="249228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Line 20"/>
          <p:cNvSpPr/>
          <p:nvPr/>
        </p:nvSpPr>
        <p:spPr>
          <a:xfrm>
            <a:off x="2556000" y="3141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Line 21"/>
          <p:cNvSpPr/>
          <p:nvPr/>
        </p:nvSpPr>
        <p:spPr>
          <a:xfrm>
            <a:off x="2484360" y="3860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Line 21"/>
          <p:cNvSpPr/>
          <p:nvPr/>
        </p:nvSpPr>
        <p:spPr>
          <a:xfrm>
            <a:off x="2484360" y="4508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Line 21"/>
          <p:cNvSpPr/>
          <p:nvPr/>
        </p:nvSpPr>
        <p:spPr>
          <a:xfrm>
            <a:off x="2484360" y="5229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Line 21"/>
          <p:cNvSpPr/>
          <p:nvPr/>
        </p:nvSpPr>
        <p:spPr>
          <a:xfrm>
            <a:off x="2484360" y="595008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31" name="Group 34"/>
          <p:cNvGrpSpPr/>
          <p:nvPr/>
        </p:nvGrpSpPr>
        <p:grpSpPr>
          <a:xfrm>
            <a:off x="1835280" y="3411360"/>
            <a:ext cx="688320" cy="593640"/>
            <a:chOff x="1835280" y="3411360"/>
            <a:chExt cx="688320" cy="593640"/>
          </a:xfrm>
        </p:grpSpPr>
        <p:grpSp>
          <p:nvGrpSpPr>
            <p:cNvPr id="132" name="Group 4"/>
            <p:cNvGrpSpPr/>
            <p:nvPr/>
          </p:nvGrpSpPr>
          <p:grpSpPr>
            <a:xfrm>
              <a:off x="1835280" y="3411360"/>
              <a:ext cx="688320" cy="593640"/>
              <a:chOff x="1835280" y="3411360"/>
              <a:chExt cx="688320" cy="593640"/>
            </a:xfrm>
          </p:grpSpPr>
          <p:sp>
            <p:nvSpPr>
              <p:cNvPr id="133" name="AutoShape 5"/>
              <p:cNvSpPr/>
              <p:nvPr/>
            </p:nvSpPr>
            <p:spPr>
              <a:xfrm>
                <a:off x="1840680" y="3421440"/>
                <a:ext cx="682920" cy="583560"/>
              </a:xfrm>
              <a:prstGeom prst="hexagon">
                <a:avLst>
                  <a:gd name="adj" fmla="val 29257"/>
                  <a:gd name="vf" fmla="val 115470"/>
                </a:avLst>
              </a:prstGeom>
              <a:blipFill rotWithShape="0">
                <a:blip r:embed="rId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34" name="AutoShape 6"/>
              <p:cNvSpPr/>
              <p:nvPr/>
            </p:nvSpPr>
            <p:spPr>
              <a:xfrm>
                <a:off x="1835280" y="3411360"/>
                <a:ext cx="682920" cy="583560"/>
              </a:xfrm>
              <a:prstGeom prst="hexagon">
                <a:avLst>
                  <a:gd name="adj" fmla="val 29257"/>
                  <a:gd name="vf" fmla="val 115470"/>
                </a:avLst>
              </a:prstGeom>
              <a:blipFill rotWithShape="0">
                <a:blip r:embed="rId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35" name="AutoShape 7"/>
              <p:cNvSpPr/>
              <p:nvPr/>
            </p:nvSpPr>
            <p:spPr>
              <a:xfrm>
                <a:off x="1875240" y="3446280"/>
                <a:ext cx="600120" cy="513360"/>
              </a:xfrm>
              <a:prstGeom prst="hexagon">
                <a:avLst>
                  <a:gd name="adj" fmla="val 29225"/>
                  <a:gd name="vf" fmla="val 115470"/>
                </a:avLst>
              </a:prstGeom>
              <a:blipFill rotWithShape="0">
                <a:blip r:embed="rId1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36" name="Text Box 8"/>
            <p:cNvSpPr/>
            <p:nvPr/>
          </p:nvSpPr>
          <p:spPr>
            <a:xfrm>
              <a:off x="2015280" y="3468600"/>
              <a:ext cx="2980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4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37" name="Group 40"/>
          <p:cNvGrpSpPr/>
          <p:nvPr/>
        </p:nvGrpSpPr>
        <p:grpSpPr>
          <a:xfrm>
            <a:off x="1805040" y="4780080"/>
            <a:ext cx="679320" cy="593640"/>
            <a:chOff x="1805040" y="4780080"/>
            <a:chExt cx="679320" cy="593640"/>
          </a:xfrm>
        </p:grpSpPr>
        <p:sp>
          <p:nvSpPr>
            <p:cNvPr id="138" name="AutoShape 16"/>
            <p:cNvSpPr/>
            <p:nvPr/>
          </p:nvSpPr>
          <p:spPr>
            <a:xfrm>
              <a:off x="1805040" y="4780080"/>
              <a:ext cx="679320" cy="593640"/>
            </a:xfrm>
            <a:prstGeom prst="hexagon">
              <a:avLst>
                <a:gd name="adj" fmla="val 28608"/>
                <a:gd name="vf" fmla="val 115470"/>
              </a:avLst>
            </a:prstGeom>
            <a:blipFill rotWithShape="0">
              <a:blip r:embed="rId1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9" name="Text Box 17"/>
            <p:cNvSpPr/>
            <p:nvPr/>
          </p:nvSpPr>
          <p:spPr>
            <a:xfrm>
              <a:off x="1983240" y="4837320"/>
              <a:ext cx="2980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6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40" name="Group 43"/>
          <p:cNvGrpSpPr/>
          <p:nvPr/>
        </p:nvGrpSpPr>
        <p:grpSpPr>
          <a:xfrm>
            <a:off x="1835280" y="5499000"/>
            <a:ext cx="688320" cy="593640"/>
            <a:chOff x="1835280" y="5499000"/>
            <a:chExt cx="688320" cy="593640"/>
          </a:xfrm>
        </p:grpSpPr>
        <p:grpSp>
          <p:nvGrpSpPr>
            <p:cNvPr id="141" name="Group 4"/>
            <p:cNvGrpSpPr/>
            <p:nvPr/>
          </p:nvGrpSpPr>
          <p:grpSpPr>
            <a:xfrm>
              <a:off x="1835280" y="5499000"/>
              <a:ext cx="688320" cy="593640"/>
              <a:chOff x="1835280" y="5499000"/>
              <a:chExt cx="688320" cy="593640"/>
            </a:xfrm>
          </p:grpSpPr>
          <p:sp>
            <p:nvSpPr>
              <p:cNvPr id="142" name="AutoShape 5"/>
              <p:cNvSpPr/>
              <p:nvPr/>
            </p:nvSpPr>
            <p:spPr>
              <a:xfrm>
                <a:off x="1840680" y="5509080"/>
                <a:ext cx="682920" cy="583560"/>
              </a:xfrm>
              <a:prstGeom prst="hexagon">
                <a:avLst>
                  <a:gd name="adj" fmla="val 29257"/>
                  <a:gd name="vf" fmla="val 115470"/>
                </a:avLst>
              </a:prstGeom>
              <a:blipFill rotWithShape="0">
                <a:blip r:embed="rId1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43" name="AutoShape 6"/>
              <p:cNvSpPr/>
              <p:nvPr/>
            </p:nvSpPr>
            <p:spPr>
              <a:xfrm>
                <a:off x="1835280" y="5499000"/>
                <a:ext cx="682920" cy="583560"/>
              </a:xfrm>
              <a:prstGeom prst="hexagon">
                <a:avLst>
                  <a:gd name="adj" fmla="val 29257"/>
                  <a:gd name="vf" fmla="val 115470"/>
                </a:avLst>
              </a:prstGeom>
              <a:blipFill rotWithShape="0">
                <a:blip r:embed="rId1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44" name="AutoShape 7"/>
              <p:cNvSpPr/>
              <p:nvPr/>
            </p:nvSpPr>
            <p:spPr>
              <a:xfrm>
                <a:off x="1875240" y="5533920"/>
                <a:ext cx="600120" cy="513360"/>
              </a:xfrm>
              <a:prstGeom prst="hexagon">
                <a:avLst>
                  <a:gd name="adj" fmla="val 29225"/>
                  <a:gd name="vf" fmla="val 115470"/>
                </a:avLst>
              </a:prstGeom>
              <a:blipFill rotWithShape="0">
                <a:blip r:embed="rId1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45" name="Text Box 8"/>
            <p:cNvSpPr/>
            <p:nvPr/>
          </p:nvSpPr>
          <p:spPr>
            <a:xfrm>
              <a:off x="2015280" y="5556240"/>
              <a:ext cx="2980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7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46" name="Text Box 49"/>
          <p:cNvSpPr/>
          <p:nvPr/>
        </p:nvSpPr>
        <p:spPr>
          <a:xfrm>
            <a:off x="3635280" y="131616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烷化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Text Box 50"/>
          <p:cNvSpPr/>
          <p:nvPr/>
        </p:nvSpPr>
        <p:spPr>
          <a:xfrm>
            <a:off x="3635280" y="198900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抗代谢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Text Box 51"/>
          <p:cNvSpPr/>
          <p:nvPr/>
        </p:nvSpPr>
        <p:spPr>
          <a:xfrm>
            <a:off x="3132000" y="2637000"/>
            <a:ext cx="26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抗肿瘤抗生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Text Box 52"/>
          <p:cNvSpPr/>
          <p:nvPr/>
        </p:nvSpPr>
        <p:spPr>
          <a:xfrm>
            <a:off x="3276720" y="3332160"/>
            <a:ext cx="23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植物抗肿瘤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Text Box 53"/>
          <p:cNvSpPr/>
          <p:nvPr/>
        </p:nvSpPr>
        <p:spPr>
          <a:xfrm>
            <a:off x="3203640" y="3979800"/>
            <a:ext cx="26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激素类抗肿瘤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Text Box 54"/>
          <p:cNvSpPr/>
          <p:nvPr/>
        </p:nvSpPr>
        <p:spPr>
          <a:xfrm>
            <a:off x="2627280" y="4724280"/>
            <a:ext cx="40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其他抗肿瘤药及辅助治疗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Text Box 55"/>
          <p:cNvSpPr/>
          <p:nvPr/>
        </p:nvSpPr>
        <p:spPr>
          <a:xfrm>
            <a:off x="2556000" y="5445000"/>
            <a:ext cx="41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化疗药物不良反应的防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94920" y="2781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Verdana"/>
                <a:ea typeface="宋体"/>
              </a:rPr>
              <a:t>第三节  抗肿瘤抗生素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0980A-F4B8-4190-94BB-73372A429FC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1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放线菌素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D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（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宋体"/>
              </a:rPr>
              <a:t>DACT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4920" y="1125000"/>
            <a:ext cx="86104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药理作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本品是多肽类抗生素，可嵌入到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双螺旋链中相邻的鸟嘌呤和胞嘧啶（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G-C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）碱基对之间，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结合成复合体，阻碍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RN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多聚酶的功能，抑制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mRN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的合成，从而妨碍蛋白质合成而抑制肿瘤细胞生长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应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抗瘤谱较窄，临床主要用于肾母细胞瘤、绒毛膜上皮癌、恶性葡萄胎、霍奇金病、恶性淋巴瘤、骨骼肌肉瘤和神经母细胞瘤等。也可提高放射线治疗的敏感性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3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6A1EC-8BA0-4324-835E-970739A1D74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放线菌素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D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61048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包括：胃肠道反应、骨髓抑制、肝功能损害、局部刺激、长期应用可抑制睾丸或卵巢功能、有免疫抑制作用，对妊娠者可引起畸胎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禁忌证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孕妇、哺乳期妇女、骨髓功能低下、有痛风病史、肝功能损害、感染、有尿酸盐性肾结石病史、近期接受过放射治疗或抗癌药治疗者慎用。水痘或最近患过水痘患者禁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C7EF6-AED3-4045-80B5-B6D25A52273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放线菌素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D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50920" y="1123920"/>
            <a:ext cx="86104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药疗监护须知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静脉注射漏出血管外，应立即停止注射，以氯化钠注射剂稀释，或以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1%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普鲁卡因注射剂局部封闭，温湿敷或冷敷，发生皮肤破溃后按溃疡处理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出现胃肠道反应，应对症处理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期间应定期检查周围血象及肝、肾功能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本药影响细胞动力学，可引起突变，对胎儿有致畸性，所以孕妇慎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本药可使血及尿中尿酸升高，所以痛风患者要慎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与氯霉素、磺胺类、氨基比林合用可加重骨髓抑制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9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D0483-A67B-4CBD-9A2F-F4343267827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2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其他常用药物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09480" y="1558800"/>
            <a:ext cx="7850160" cy="41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5000"/>
              </a:lnSpc>
              <a:spcBef>
                <a:spcPts val="122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多柔比星又名阿霉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22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丝裂霉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MMC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22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博来霉素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BLM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又名平阳霉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2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62338-756F-4121-B4FE-557E53D2B37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94920" y="2781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Verdana"/>
                <a:ea typeface="宋体"/>
              </a:rPr>
              <a:t>第四节  植物抗肿瘤药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4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F42AB-D3DE-4F21-B968-1A9A8B85C48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1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长春碱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（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宋体"/>
              </a:rPr>
              <a:t>VLB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304920" y="1125360"/>
            <a:ext cx="86104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药理作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本品主要作用于增生细胞有丝分裂的中期，对增生旺盛的细胞作用最强。主要通过抑制微管蛋白的聚合，而妨碍纺锤体微管的形成，使核分裂停止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M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期。属于细胞周期特异性抗肿瘤药，主要作用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M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期细胞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应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用于治疗急性淋巴细胞性白血病、恶性淋巴瘤、睾丸肿瘤、绒毛膜癌疗效较好，对肺癌、乳腺癌、卵巢癌、皮肤癌及单核细胞白血病也有一定疗效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7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E7F87-4902-4DE2-A44C-F7E7F69830F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长春碱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61048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包括：骨髓抑制、胃肠道反应、周围神经毒性、局部刺激、其他如少数患者可出现脱发、直立性低血压、失眠、头痛及肝、肾功能损害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禁忌证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妊娠、哺乳期妇女禁用。已发生骨髓抑制、肿瘤已侵犯骨髓和正在接受放疗的患者慎用。有痛风病史和有尿酸盐性肾结石者慎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16426-960C-45AC-B040-97B92CD15AD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长春碱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50920" y="1123920"/>
            <a:ext cx="86104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37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药疗监护须知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88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本药注射勿漏于血管外，如不慎将药液漏于血管外，应立即局部皮下注射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0.25%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硫代硫酸钠或生理盐水及冷敷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6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12 h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88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期间每周应检查血象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次，如果白细胞和血小板数量过低必须立即停药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88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期间应定期检测肝、肾功能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88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脱发一般发生于用药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周，应预先向患者说明，头发可再生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3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0F2B3-599B-413C-A46A-E85DF995BAC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2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其他常用药物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4000" y="1557000"/>
            <a:ext cx="604836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52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长春新碱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VCR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52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紫杉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57AFF-A028-4283-8B89-31B128808F0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341000"/>
            <a:ext cx="86104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87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宋体"/>
              </a:rPr>
              <a:t>掌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常用抗恶性肿瘤药的不良反应及药疗监护须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87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宋体"/>
              </a:rPr>
              <a:t>熟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其他抗恶性肿瘤药的临床应用和禁忌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87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宋体"/>
              </a:rPr>
              <a:t>了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抗恶性肿瘤药分类及代表药；各代表药物的药理作用和用法；其他常用药物的作用特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5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30AE9-D52D-4EA2-9C64-0F1F311887F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94920" y="2781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Verdana"/>
                <a:ea typeface="宋体"/>
              </a:rPr>
              <a:t>第五节  激素类抗肿瘤药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EB750-4C53-463A-8001-57B288390E0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1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他莫昔芬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4920" y="1125360"/>
            <a:ext cx="86104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药理作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本品为合成的抗雌激素类药，可与雌二醇竞争结合肿瘤雌激素受体，阻止受体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上的雌激素反应元件相结合，使转录等过程不能进行，从而抑制激素依赖性乳腺肿瘤细胞的生长繁殖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应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用于乳腺癌术后辅助治疗，雌激素受体阳性患者疗效较好，特别是绝经后年龄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60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岁以上的患者；用于晚期乳腺癌或治疗后复发者，对皮肤、淋巴结及软组织转移疗效较好；也用于子宫内膜癌、不排卵性不孕症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1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2BDEF-0617-4809-A783-A2E97C5C2B5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他莫昔芬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61048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包括：胃肠道反应、继发性抗雌激素作用、神经精神症状、骨髓抑制、大剂量长期应用可导致视力障碍及皮疹、脱发、肝脏损害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禁忌证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绝经前、孕妇、哺乳期妇女禁用。有视力障碍，肝、肾功能不全者慎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4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82158-2CA8-4A1F-9A28-BEBCB2C3633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他莫昔芬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250920" y="1123920"/>
            <a:ext cx="86104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462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药疗监护须知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462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前及用药期间应定期做眼科检查和肝、肾功能检查。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462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对长期服用本品并有血栓栓塞危险的患者，治疗期间应定期检查血象。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462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当出现异常的阴道出血时，应立即就诊，并进行全面检查。阴道大量出血时应停药。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462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用本品治疗的患者有增加子宫内膜癌发生的危险，所以应进行妇科检查。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462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使用本品可出现月经过多及不规则子宫出血。因此，若绝经前必须使用本药者，应同时服用抗促性腺激素药物。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7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EDDAC-8A40-4736-A63D-B4ADC38B471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2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其他常用药物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99640" y="1557360"/>
            <a:ext cx="6410520" cy="41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5000"/>
              </a:lnSpc>
              <a:spcBef>
                <a:spcPts val="122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福美司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22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雌莫司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A4369-EE54-4E09-BBF9-D7A4EB83BAD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病 例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3" name="圆角矩形 3"/>
          <p:cNvSpPr/>
          <p:nvPr/>
        </p:nvSpPr>
        <p:spPr>
          <a:xfrm>
            <a:off x="468360" y="1484280"/>
            <a:ext cx="7858080" cy="1585800"/>
          </a:xfrm>
          <a:prstGeom prst="roundRect">
            <a:avLst>
              <a:gd name="adj" fmla="val 12264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患者男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6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岁，诊断为前列腺癌晚期。医嘱：雌二醇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 mg/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口服。治疗一段时间后效果不佳，改用多柔比星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00 mg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，缓慢静脉注射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/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4" name="剪去单角的矩形 6"/>
          <p:cNvSpPr/>
          <p:nvPr/>
        </p:nvSpPr>
        <p:spPr>
          <a:xfrm>
            <a:off x="539640" y="3213000"/>
            <a:ext cx="8001000" cy="714600"/>
          </a:xfrm>
          <a:prstGeom prst="pie">
            <a:avLst/>
          </a:prstGeom>
          <a:solidFill>
            <a:srgbClr val="fe230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问题：雌二醇治疗效果不佳后，改用多柔比星是否合理，为什么？应该改用什么药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5" name="Rectangle 6"/>
          <p:cNvSpPr/>
          <p:nvPr/>
        </p:nvSpPr>
        <p:spPr>
          <a:xfrm>
            <a:off x="3641400" y="984960"/>
            <a:ext cx="1460880" cy="5205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药物选择不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6" name="圆角矩形 3"/>
          <p:cNvSpPr/>
          <p:nvPr/>
        </p:nvSpPr>
        <p:spPr>
          <a:xfrm>
            <a:off x="601560" y="4076640"/>
            <a:ext cx="7858080" cy="2592360"/>
          </a:xfrm>
          <a:prstGeom prst="roundRect">
            <a:avLst>
              <a:gd name="adj" fmla="val 12264"/>
            </a:avLst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分析：不合理。因为该患者为前列腺癌晚期，不适合手术治疗，只能采用药物治疗，选择调节激素平衡的药物雌二醇是合理的，但改用多柔比星是不合理的，因为多柔比星是抗肿瘤抗生素类药物，没有调节激素平衡的作用。该患者属于激素治疗效果不佳者，应改用雌莫司汀，该药物主要用于晚期前列腺癌，尤其适用于对雌二醇治疗不敏感的前列腺癌的患者。</a:t>
            </a:r>
            <a:endParaRPr b="0" lang="en-US" sz="23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94920" y="1700280"/>
            <a:ext cx="8077320" cy="316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35000"/>
              </a:lnSpc>
              <a:spcBef>
                <a:spcPts val="24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Verdana"/>
                <a:ea typeface="宋体"/>
              </a:rPr>
              <a:t>第六节  </a:t>
            </a: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Verdana"/>
                <a:ea typeface="宋体"/>
              </a:rPr>
              <a:t>其他抗肿瘤药及辅助治疗药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B9B7C-9ADC-4288-80EB-91908658908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1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顺  铂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04920" y="1125360"/>
            <a:ext cx="86104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62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药理作用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本品能与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链上的鸟嘌呤、腺嘌呤和胞嘧啶形成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单链内两点的交叉联结，也可能形成双链间的交叉联结，从而破坏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功能，阻止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再复制；对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RNA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和蛋白质合成的抑制作用较弱。属细胞周期非特异性药物。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62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应用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抗瘤谱广。主要用于治疗转移性睾丸癌和卵巢癌，是治疗非精原细胞性睾丸肿瘤最有效的药物之一，亦可用于绒癌、宫颈癌等其他生殖系统肿瘤；对头颈部癌、肺非小细胞癌、膀胱癌、胃癌、骨髓癌等也有一定疗效。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1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CF70D-00A8-46A2-9075-61872F4899D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顺  铂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250560" y="1341360"/>
            <a:ext cx="84978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包括：胃肠道反应、肾功能损害、骨髓抑制、神经毒性、过敏反应、电解质紊乱、少数患者出现心电图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ST-T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改变、肝功能损害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禁忌证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肾功能损害、严重骨髓抑制、对本品有过敏史者及孕妇、哺乳期妇女禁用。听力受损、中耳炎或听神经功能障碍者禁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4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860FE-EFE6-4295-AD4B-26F6F22063B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顺  铂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250920" y="1123920"/>
            <a:ext cx="864216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药疗监护须知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前宜备好各类止吐药，同时备用肾上腺素、皮质激素、抗组胺药，以便急救使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在用药前、中、后均应监测血、尿、肝、肾及听力功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期间应鼓励患者多饮水或输液强迫利尿，以降低肾功能损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于严重的消化道反应恶心、呕吐应给于高效的止吐药物，并做好患者的饮食宣教，以少食多餐、清淡饮食为主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单次顺铂静脉给药剂量超过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60 m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时必须先水化，并用生理盐水配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7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4A2CA-982B-46F6-9482-56F4B129592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灯片编号占位符 4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51C02-18A5-4056-9568-A86EFDF3900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71720" y="285480"/>
            <a:ext cx="77040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抗肿瘤药物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Oval 5"/>
          <p:cNvSpPr/>
          <p:nvPr/>
        </p:nvSpPr>
        <p:spPr>
          <a:xfrm>
            <a:off x="250920" y="1341360"/>
            <a:ext cx="3544920" cy="847800"/>
          </a:xfrm>
          <a:prstGeom prst="ellipse">
            <a:avLst/>
          </a:prstGeom>
          <a:solidFill>
            <a:srgbClr val="00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根据药物作用生化机制分为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Rectangle 9"/>
          <p:cNvSpPr/>
          <p:nvPr/>
        </p:nvSpPr>
        <p:spPr>
          <a:xfrm>
            <a:off x="4211640" y="1079640"/>
            <a:ext cx="410544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干扰核酸生物合成的药物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影响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DNA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结构与功能的药物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干扰转录过程和阻止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RNA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合成的药物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干扰蛋白质合成与功能的药物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调节激素平衡的药物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Text Box 12"/>
          <p:cNvSpPr/>
          <p:nvPr/>
        </p:nvSpPr>
        <p:spPr>
          <a:xfrm>
            <a:off x="4903920" y="2997360"/>
            <a:ext cx="200952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a0e1c"/>
                </a:solidFill>
                <a:latin typeface="Arial"/>
                <a:ea typeface="宋体"/>
              </a:rPr>
              <a:t>细胞周期非特异性药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a0e1c"/>
                </a:solidFill>
                <a:latin typeface="Arial"/>
                <a:ea typeface="宋体"/>
              </a:rPr>
              <a:t>细胞周期特异性药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AutoShape 13"/>
          <p:cNvSpPr/>
          <p:nvPr/>
        </p:nvSpPr>
        <p:spPr>
          <a:xfrm>
            <a:off x="3851280" y="1074600"/>
            <a:ext cx="360360" cy="1346400"/>
          </a:xfrm>
          <a:custGeom>
            <a:avLst/>
            <a:gdLst>
              <a:gd name="textAreaLeft" fmla="*/ 230400 w 360360"/>
              <a:gd name="textAreaRight" fmla="*/ 360720 w 360360"/>
              <a:gd name="textAreaTop" fmla="*/ 34920 h 1346400"/>
              <a:gd name="textAreaBottom" fmla="*/ 1311480 h 1346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Oval 5"/>
          <p:cNvSpPr/>
          <p:nvPr/>
        </p:nvSpPr>
        <p:spPr>
          <a:xfrm>
            <a:off x="250920" y="5029200"/>
            <a:ext cx="3544920" cy="847800"/>
          </a:xfrm>
          <a:prstGeom prst="ellipse">
            <a:avLst/>
          </a:prstGeom>
          <a:solidFill>
            <a:srgbClr val="00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根据药物来源和化学结构分为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Oval 5"/>
          <p:cNvSpPr/>
          <p:nvPr/>
        </p:nvSpPr>
        <p:spPr>
          <a:xfrm>
            <a:off x="250920" y="3157560"/>
            <a:ext cx="3544920" cy="847800"/>
          </a:xfrm>
          <a:prstGeom prst="ellipse">
            <a:avLst/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根据药物作用的周期分为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Rectangle 21"/>
          <p:cNvSpPr/>
          <p:nvPr/>
        </p:nvSpPr>
        <p:spPr>
          <a:xfrm>
            <a:off x="4427640" y="4352760"/>
            <a:ext cx="410508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烷化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抗代谢药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抗肿瘤抗生素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植物抗肿瘤药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激素类抗肿瘤药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其他药物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AutoShape 13"/>
          <p:cNvSpPr/>
          <p:nvPr/>
        </p:nvSpPr>
        <p:spPr>
          <a:xfrm>
            <a:off x="3924360" y="4602240"/>
            <a:ext cx="431640" cy="1706400"/>
          </a:xfrm>
          <a:custGeom>
            <a:avLst/>
            <a:gdLst>
              <a:gd name="textAreaLeft" fmla="*/ 275760 w 431640"/>
              <a:gd name="textAreaRight" fmla="*/ 432000 w 431640"/>
              <a:gd name="textAreaTop" fmla="*/ 44280 h 1706400"/>
              <a:gd name="textAreaBottom" fmla="*/ 1662120 h 1706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Line 23"/>
          <p:cNvSpPr/>
          <p:nvPr/>
        </p:nvSpPr>
        <p:spPr>
          <a:xfrm flipV="1">
            <a:off x="3803760" y="3284640"/>
            <a:ext cx="480960" cy="247680"/>
          </a:xfrm>
          <a:prstGeom prst="line">
            <a:avLst/>
          </a:prstGeom>
          <a:ln w="316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Line 24"/>
          <p:cNvSpPr/>
          <p:nvPr/>
        </p:nvSpPr>
        <p:spPr>
          <a:xfrm>
            <a:off x="3780000" y="3645000"/>
            <a:ext cx="576000" cy="144360"/>
          </a:xfrm>
          <a:prstGeom prst="line">
            <a:avLst/>
          </a:prstGeom>
          <a:ln w="316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病 例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0" name="圆角矩形 3"/>
          <p:cNvSpPr/>
          <p:nvPr/>
        </p:nvSpPr>
        <p:spPr>
          <a:xfrm>
            <a:off x="468360" y="1557360"/>
            <a:ext cx="7858080" cy="1585800"/>
          </a:xfrm>
          <a:prstGeom prst="roundRect">
            <a:avLst>
              <a:gd name="adj" fmla="val 12264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患者女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岁，诊断为卵巢癌，并伴有神经功能传导异常、听力功能下降。医嘱：顺铂联合紫杉醇化疗，顺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00 mg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，紫杉醇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00 mg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，平均每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周一次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1" name="剪去单角的矩形 6"/>
          <p:cNvSpPr/>
          <p:nvPr/>
        </p:nvSpPr>
        <p:spPr>
          <a:xfrm>
            <a:off x="539640" y="3213000"/>
            <a:ext cx="8001000" cy="714600"/>
          </a:xfrm>
          <a:prstGeom prst="pie">
            <a:avLst/>
          </a:prstGeom>
          <a:solidFill>
            <a:srgbClr val="fe230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问题：选择该治疗方案是否合理？为什么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2" name="Rectangle 6"/>
          <p:cNvSpPr/>
          <p:nvPr/>
        </p:nvSpPr>
        <p:spPr>
          <a:xfrm>
            <a:off x="3211560" y="984960"/>
            <a:ext cx="3013920" cy="5205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忽视禁忌证，致不良反应增加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3" name="圆角矩形 3"/>
          <p:cNvSpPr/>
          <p:nvPr/>
        </p:nvSpPr>
        <p:spPr>
          <a:xfrm>
            <a:off x="601560" y="4076640"/>
            <a:ext cx="7858080" cy="2519280"/>
          </a:xfrm>
          <a:prstGeom prst="roundRect">
            <a:avLst>
              <a:gd name="adj" fmla="val 12264"/>
            </a:avLst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分析：不合理。虽然使用顺铂与紫杉醇联合化疗是卵巢癌常用的化疗方法，但是紫杉醇具有神经毒性，而该患者伴有神经功能传导异常情况，使用紫杉醇是禁忌的，不宜使用；又因为顺铂有听神经毒性，禁用于听力受损、中耳炎或听神经功能障碍者。而该患者伴有听力功能受损，不宜使用。该患者有上述两种禁忌，所以使用这两种药物治疗是不合理的。</a:t>
            </a:r>
            <a:endParaRPr b="0" lang="en-US" sz="23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2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其他常用药物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09480" y="1558800"/>
            <a:ext cx="7850160" cy="41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5000"/>
              </a:lnSpc>
              <a:spcBef>
                <a:spcPts val="122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卡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22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去甲斑蝥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19977-4290-420D-8633-69C5F30D5F9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94920" y="1483920"/>
            <a:ext cx="8077320" cy="381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40000"/>
              </a:lnSpc>
              <a:spcBef>
                <a:spcPts val="19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Verdana"/>
                <a:ea typeface="宋体"/>
              </a:rPr>
              <a:t>第七节  </a:t>
            </a: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Verdana"/>
                <a:ea typeface="宋体"/>
              </a:rPr>
              <a:t>化疗药物不良反应的防治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92D4E-C51F-4048-AB11-2C50B77F5DD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化疗药物常见不良反应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71280" y="1197000"/>
            <a:ext cx="360036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30000"/>
              </a:lnSpc>
              <a:spcBef>
                <a:spcPts val="87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局部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30000"/>
              </a:lnSpc>
              <a:spcBef>
                <a:spcPts val="87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胃肠道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30000"/>
              </a:lnSpc>
              <a:spcBef>
                <a:spcPts val="87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骨髓抑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30000"/>
              </a:lnSpc>
              <a:spcBef>
                <a:spcPts val="87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肾功能损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30000"/>
              </a:lnSpc>
              <a:spcBef>
                <a:spcPts val="87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肝功能损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30000"/>
              </a:lnSpc>
              <a:spcBef>
                <a:spcPts val="87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心脏毒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30000"/>
              </a:lnSpc>
              <a:spcBef>
                <a:spcPts val="87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脱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1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2DDAB-0C54-4AD1-B18E-A4EAB23DAFE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2" name="Rectangle 5"/>
          <p:cNvSpPr/>
          <p:nvPr/>
        </p:nvSpPr>
        <p:spPr>
          <a:xfrm>
            <a:off x="3946680" y="1053000"/>
            <a:ext cx="216180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栓塞性静脉炎防治措施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局部组织坏死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药物外渗防治措施 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3" name="AutoShape 6"/>
          <p:cNvSpPr/>
          <p:nvPr/>
        </p:nvSpPr>
        <p:spPr>
          <a:xfrm>
            <a:off x="3059280" y="1125360"/>
            <a:ext cx="360360" cy="1151280"/>
          </a:xfrm>
          <a:custGeom>
            <a:avLst/>
            <a:gdLst>
              <a:gd name="textAreaLeft" fmla="*/ 230400 w 360360"/>
              <a:gd name="textAreaRight" fmla="*/ 360720 w 360360"/>
              <a:gd name="textAreaTop" fmla="*/ 29880 h 1151280"/>
              <a:gd name="textAreaBottom" fmla="*/ 1121400 h 1151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1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局部反应的防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250920" y="1123920"/>
            <a:ext cx="86104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5000"/>
              </a:lnSpc>
              <a:spcBef>
                <a:spcPts val="1312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栓塞性静脉炎防治措施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137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为预防静脉炎的发生，应避免直接推注药物，而将化疗药物稀释后静注或静滴，然后用生理盐水或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5%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葡萄糖充分冲洗输液血管，以减轻药物对静脉的刺激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137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如需多次用药或患者静脉过细，均可采用锁骨下静脉穿刺法，将导管插入上腔静脉，则不会引起静脉炎，并可保留导管，使患者减少多次穿刺之痛苦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CFA48-7D49-4B5B-9181-291AAF2202D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1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局部反应的防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250560" y="1123920"/>
            <a:ext cx="85690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局部组织坏死防治措施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88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及时发现，当化疗药物漏于皮下时患者即刻感到局部明显疼痛，此时应立即停注药物，用生理盐水冲洗输液管道内的化疗药物，拔出针头，重新选择其他血管进行穿刺输液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88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及时处理：用生理盐水作局部皮下注入，以稀释化疗药物的浓度，并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2%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普鲁卡因局部封闭，然后根据化疗药物的特性予以冷敷或热敷以防增加吸收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88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外用醋酸可地松软膏以防局部溃烂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9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3A8B6-BB67-4323-A86E-1FA3291C82F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1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局部反应的防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250560" y="1123920"/>
            <a:ext cx="85690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药物外渗防治措施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化疗前应识别是发疱性还是非发疱性药物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静注发疱性药物，如发现生理盐水或葡萄糖外渗明显，则应另选注射部位，避免使用同一静脉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在静注给药部位尽量抽吸，以清除残留针头及皮管内的药液，吸取皮下水疱液，以尽可能除去残留液体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抬高患肢，注射部位宜用冷敷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输注部位使用适宜的解毒剂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如有严重的局部组织损伤或坏死，可考虑局部切除和整形外科治疗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2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45914-D125-4BEE-99F1-703236038CC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2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胃肠道反应的防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323640" y="1700280"/>
            <a:ext cx="856908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5000"/>
              </a:lnSpc>
              <a:spcBef>
                <a:spcPts val="1137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注意保护口腔清洁，作好口腔护理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137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少吃多餐，给患者所喜欢的食物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137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给高蛋白、富含维生素、高纤维素、易消化的饮食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137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采用嗽口药液，常用有盐水、硼砂水、呋喃西林等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137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必要时给予经肠道内或肠道外补充营养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5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2B4D1-0537-4A5C-8C06-F9E4566F221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3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骨髓抑制的防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35344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化疗前后检查血象，一般每周查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次，必要时每周检查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次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有感染征兆可用抗生素预防和治疗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贫血明显时应予以纠正，输注红细胞成分血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给促红细胞生长素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必要时吸氧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有明显眩晕、乏力者适当休息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注意观察出血倾向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静脉穿刺拔针时，应该压迫局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5 min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，以防皮下出血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9BD06-C12A-4488-9F9E-15C97B0A531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4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肾功能损害的防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35344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1301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为预防肾损伤的发生，对甲氨蝶呤、顺铂等肾毒性较强的药物应用前要进行水化治疗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1301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尿素增高时，可口服包醛氧淀粉，每次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10 g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，每日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次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1301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尿毒症时则需作肾透析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1301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肾功能异常时应调整抗肿瘤药物的剂量或停药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1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D181F-68C5-444F-90C4-EE2FDCFEE1A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一节  烷化剂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4920" y="1268280"/>
            <a:ext cx="861048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本类药物抗瘤谱广，选择性高，化学结构中有一个或两个活泼的烷化基团，可与细胞中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RN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或蛋白质分子中亲核基团发生烷化作用，形成交叉联结或引起脱嘌呤，使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链断裂，或在下一次复制时使碱基配对错码，从而造成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结构与功能的破坏，严重时可导致肿瘤细胞死亡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常用药物包括：氮芥、环磷酰胺、白消安、卡莫司汀、罗莫司汀、司莫司汀、美法仑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F20A0-289C-4C48-AE85-71D71B62D28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5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肝功能损害的防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35344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恶性肿瘤患者在化疗前、中、后都应定期作肝功检查，根据化验结果调整药物剂量，对肝功重度异常者禁用化疗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对轻度肝功异常、脂肪肝或轻度肝硬化者，在必须化疗的情况下同时应用护肝药物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对化疗过程中出现轻度单项谷丙转氨酶升高者，应同时应用护肝药物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严重肝损害尤其是发生药物性黄疸者应停止使用化疗药物，积极进行护肝治疗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4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0EE93-BAA8-4B8C-9BDF-F07B4674AD2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6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心脏毒性防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856944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1301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以预防为主，限制具有心脏毒性药物的剂量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1301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与洋地黄并用可提高使用具有心脏毒性药物的安全性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1301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延长具有心脏毒性药物的滴注时间也可降低心毒性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1301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发生心肌病时，可给洋地黄、利尿剂、少盐饮食和卧床休息等措施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7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BDED0-F217-4328-B1FB-CC1CF73F925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7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脱发的防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35344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97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化疗前告诉患者脱发的可能，并说明脱发是暂时的，可以恢复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7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后避免过分洗发和用力梳头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7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使用温和的洗发液和护发液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7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避免在头发上使用不适当的化学用品，不烫发染发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7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在注药前戴冰帽，使头皮冷却，血管痉挛，减少药物到达毛囊而减轻脱发，或用头皮止血带，减少药液进入头皮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0DF22-F4D9-48A4-83B1-3251E885913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1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氮芥（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宋体"/>
              </a:rPr>
              <a:t>HN</a:t>
            </a:r>
            <a:r>
              <a:rPr b="1" lang="en-US" sz="4000" spc="-1" strike="noStrike" baseline="-25000">
                <a:solidFill>
                  <a:srgbClr val="ffffff"/>
                </a:solidFill>
                <a:latin typeface="Times New Roman"/>
                <a:ea typeface="宋体"/>
              </a:rPr>
              <a:t>2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4920" y="1125360"/>
            <a:ext cx="861048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药理作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氮芥是最早用于临床并取得突出疗效的抗肿瘤药物。本品可与鸟嘌呤第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7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位上的氮呈双键缩和，使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双链内发生交叉联结或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同链内的不同碱基发生交叉联结，导致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结构和功能破坏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应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用于霍奇金病、非霍奇金淋巴瘤等，尤其适用于纵膈压迫症状明显的恶性淋巴瘤患者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3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C683D-B717-4D7B-AD2B-3E4515B4D50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氮芥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61048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包括：局部反应、胃肠道反应、骨髓抑制；也可有眩晕、乏力、视力减退、耳鸣、听力丧失、脱发、月经不调、男性不育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禁忌证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孕妇、哺乳期妇女及心功能不全者禁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2C741-BF1F-4D1E-9C30-154AE4DF818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氮芥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50920" y="981000"/>
            <a:ext cx="86104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药疗监护须知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有明显的局部刺激作用，易引起组织坏死，仅供动脉、静脉及腔内给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本品溶解后极不稳定，使用时应新鲜配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本药注射勿漏于血管外，如不慎将药液漏于血管外，应立即局部皮下注射硫代硫酸钠或生理盐水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本品可刺激延脑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TZ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能引起剧烈的呕吐，可应用恩丹西酮或胃复安及地塞米松止吐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期间每周应检查血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，如果白细胞和血小板数量过低必须立即停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烷化剂有致突变或致畸胎作用，孕妇禁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本品有致癌性，长期应用可使继发性肿瘤发生的危险增加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50695-2E2F-48B4-A537-29C23A5D56D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2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环磷酰胺（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宋体"/>
              </a:rPr>
              <a:t>CTX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125360"/>
            <a:ext cx="86104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药理作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环磷酰胺是双功能烷化剂及细胞周期非特异性药物，可干扰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及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RN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功能，尤以对前者的影响更大，它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发生烷化，形成交叉联结，抑制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合成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应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环磷酰胺抗瘤谱广，为目前广泛应用的烷化剂。对恶性淋巴瘤疗效显著，对多发性骨髓瘤、急性淋巴细胞白血病、神经性细胞瘤、乳腺癌、卵巢癌、肺癌、睾丸肿瘤等均有一定的疗效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2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D295C-B48F-40EB-B7ED-2DADFEAD312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赵欣</cp:lastModifiedBy>
  <cp:lastPrinted>1899-12-30T00:00:00Z</cp:lastPrinted>
  <dcterms:modified xsi:type="dcterms:W3CDTF">2015-12-14T07:52:29Z</dcterms:modified>
  <cp:revision>174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